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747B-C925-438F-93AB-B100D96A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3A43-5F70-45CE-A35B-19E95990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83C-1A9E-4C0A-86E0-780C041D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F724-0060-406C-B179-21B7371B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2B4-721B-4245-BE8E-D465A425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997-A028-4211-856E-3A928EFC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D09-0B96-425D-909A-052C984C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1D1-133A-48FC-944E-8BE04A7E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09D-8DB2-435C-8BE9-463686E4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AF4-64F3-49BF-9B40-34DB1008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4B34-C228-4597-9E5B-D88ADF3F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6843-319C-47DE-A05E-37409610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DCD2-F9F9-4AAC-B46A-7259B4107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тоде анализа дијететских производа. Енергетска вредност дијететских производа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тритивни суплемен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ж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нципи на којима се заснива мет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арањем узорка на повишеној температури и притиску, уз додатак HNO3 и Н2О2, метали се преводе у растворни обл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ентрација метала у узорку се одређује методом оптичке емисионе спектрометрије, на основу линеарне зависности концентрације и измереног интензитета емисије на апара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мисиона спектроско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а емисионе спектроскопије је анализa зрачења које долази из неког извора (извор плазме, ласер, усијана нит ...). Улога спектралног уређаја је разлагање (дисперзијa) сложеног (полихроматског) зрачења по таласним дужина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перзија светлости се може вршити помоћу призме, дифракционе решетке или интерферомет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пходно је да постоји физички процес који зависи од таласне дужине светлости (преламање светлости, дифракција, интерференциј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15"/>
          <p:cNvPicPr/>
          <p:nvPr/>
        </p:nvPicPr>
        <p:blipFill>
          <a:blip r:embed="rId1"/>
          <a:stretch/>
        </p:blipFill>
        <p:spPr>
          <a:xfrm>
            <a:off x="1835280" y="0"/>
            <a:ext cx="4422600" cy="5592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3200400" y="57150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еђај за оптичку емисиону спектроскоп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дређивање садржаја триазина у храни методом гасне хроматографиј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имање узорака и конзервирањ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ристи с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игинално паковања производа, Потребно је водити рачуна да у току узорковања, транспорта и чувања узорка, не дође до контаминације. Конзервирање узорака није потреб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премање узор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нети узорак се припрема, у зависности од природе узорка, процесом хомогенизације, уситњавањем, млевењем, чиме се остварује већа додирна површина узорка и екстракционог средства, ради побољшања ефекта екстракције пестици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нципи на којима се заснива мет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ређивање садржаја триазинских пестицида у храни, заснива се на њиховој екстракцији на чврстој фази, у ткз. QuEChERS екстракционим тубама-колонама са погодним сорбентом (MgSO4, CH3COONa, PSA...), и ацетонитрилом, у својству растварача, који везује молекуле пестици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сна хроматографија (GC) или Гасно-течна хроматографија (GLC), је хроматографска метода раздвајања и детекције органских једиње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 ове инструменталне методе мобилна фаза је и уједно носећи гас, обично инертан (најчешће аргон или хелијум) или гас који не реагује са испитиваним узорком (најчешће азот) а стационарна фаза је лепеза избора од молекулског сита па до капиларних колона пресвучених вискозном течношћу или микроскопским слојевима полиме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сна хроматографија је различита техника од других врста хроматографије као ш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HP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 разлика је у начину проласка испитиване супстанце кроз колону, узорак је увек у гасном стањ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 пуњених колона узорак пролази кроз стационарну фазу и компоненте узорка бивају задржане различито време у колони у зависности од величине молеку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800px-Gaschromatograph"/>
          <p:cNvPicPr/>
          <p:nvPr/>
        </p:nvPicPr>
        <p:blipFill>
          <a:blip r:embed="rId1"/>
          <a:stretch/>
        </p:blipFill>
        <p:spPr>
          <a:xfrm>
            <a:off x="762120" y="228600"/>
            <a:ext cx="4340160" cy="57895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5473440" y="35416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асни хромато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ређивање садржаја таурина у енергетским пићима и дијететским суплементима методом течне хроматограф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зимање узорака и конзервирањ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зорци се узоркују у оригиналној амбала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зервирање узорака није потреб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премање узор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кстрак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еленм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јер разблажи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зор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уз интезивно мућкање додати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дговарајући реаген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Награђени мутни раствор се затим профилтрира кроз квантитативни филтер папи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риватиз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пипетирати две пробе по 1,0 мл екстрата узорка  и додати  Na2CO3 раствора и  раствора дансил-хлорида. Интезивно мућкати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а затим оставити на воденом купатил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Раствор затим профилтрирати кроз микрофилтер у стаклену бочицу за HPLC. Бистар филтрат инјицирати у HPL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омена: Разблажење узорка изводити у таквом односу како би се тражена комплонента н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зи у опсегу калибрационе кри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нципи на којима се заснива мет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ређена количина узорка (или једна таблета, капсула) се раствори у води, и после екстракције и дериватизације а затим профилтрирати кроз мембранфилтер  у стаклену бочицу за аутосемпл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059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анализе дијететских суплемената користе се стандардизоване методе предвиђене правилницима, и поштују се ISO стандар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PS ISO 9001: 2015 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је међународни стандард који садржи захтеве за систем управљања квалитетом у пословној организацији које организација мора испунити да би ускладила своје пословање са међународно признатим нормам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PS ISO/IEC 17025 - овај међународни стандард утврђује опште захтеве за обављање испитивања и/или еталонирања, укључујући узорковања. Он обухвата испитивање и еталонирање коришћењем стандардних метода, нестандардних метода и метода развијених у лабораториј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30592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пходно је да свака лабораторија у којој се спроводе анализе дијететских суплемената буде акредитов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редитационо тело Србије (АТС) је национално тело за акредитацију, основано од стране Републике Србије, са седиштем у Београ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м о акредитацији АТС-у се поверавају послови утврђивања компетентности тела за оцењивање усаглашености за обављање послова испитивања, еталонирања, контролисања, сертификације производа, сертификације система менаџмента и сертификације особ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онтрола се спроводи сваке год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ављaју се редовне контроле радa лаборатор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међулабораторијску проверу користе с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ficiency Tes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T)   схеме за одређену врсту узорка и одређену мет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ебно је важно адекватно узорковати и припремити узорак за сваку анали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дређивање енергетске вредност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ијететских произ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зимање узорака и конзерви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зорке треба узорковати у неотвореној оригиналној амбалажи. Ако узорци немају оригиналну амбалажу, узоркују се у одговарајућим добро затвореним посудама за узорков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 је водити рачуна да у току узорковања, транспорта и чувања узорка, не дође до контамин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зервирање узорака није потреб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премање узо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 анализе, потребно је да се узорак добро хомогенизу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нципи на којима се заснива мет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да се заснива на одређивању садржаја суве материје, масти, протеина и угљених хидрата у узорку. Израчуна се удео масти, протеина и угљених хидрата у енергетској вредности, и њиховим сабирањем се добија укупна енергетска вредн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хтевани услови радне сред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мпературу ваздуха у лабораторији одржавати у интервалу од 18- 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, уз помоћ клима уређаја. Лабораторији мора имати довољно светлости, и не сме бити буке, нити вибра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ређивање витамина (ниацина) методом течне хроматограф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зимање узорака и конзервир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зорци дијететских суплемената узоркују се у оригиналној амбала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зервирање узорака није потреб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премање узо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мерити одговарајућу количину узорка и додати воду,снажно промућкати, редестилованом водоми наставити хомогенизацију на ултразвучном купати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нципи на којима се заснива мет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ређена количина узорка (или једна таблета, капсула) се раствори у води, и после екстракције и хомогенизације на ултразвучном купатилу 15 мину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хтевани услови радне сред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мпературу ваздуха у лабораторији одржавати у интервалу од 18-2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 уз помоћ клима уређаја, ради обезбеђивања оптималних услова за рад, који су неопходни за HPLC апар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д спроводитиу лабораторији која има довољно светлости, у којој нема буке, влаге нити вибрациј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роматограф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(од грч.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ρώμ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ro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боја грч. 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ραφει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rafe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писати) је назив за групу лабораторијских техника за раздвајање компоненти сме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 хроматографијом се подразумевају различите методе које се заснивају на различитој расподели компонената узорка између две фазе, од којих је једна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обил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а друга 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тационар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роматографске методе укључују кретање смеше која се испитује и која је растворена у мобилној фази и креће се кроз стационарну фаз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вом техником се делови смеше раздвајају на компоненте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валитативна анали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и омогућава да се у каснијој фази методе компонента анализира и квантитатив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чна хроматографија високих перформанси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PL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ечна хроматографија под високим притиском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цип ра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PL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а је форсирање проласка анализиране супстанце (или смеше) кроз колону (цев напуњену материјалом ситних честица, а тиме и велике површине) пумпањем течности (мобилна фаза) под високим притиском кроз коло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носи се мала запремина узорка у ток мобилне фазе и на основу специфичних хемијских и физичких интеракција, долази до различитог задржавања компонената сме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е задржавања зависи од природе супстанце која се анализира, стационарне фазе и састава мобилне фа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е за које се супстанца елуира (дође до краја колоне) назива се ретенционо време и оне је карактеристично за одређену супстан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и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ње високог притиска повећава линеарну брзину и даје компонентама мање времена за задржавање, што побољшава резолуцију хроматогра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исте се уобичајени растварачи, чисти или у било којој комбинацији (нпр. вода, метанол, органски растварачи, итд). Вода може садржавати и неки пуфер, како би се побољшало раздвајањ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3279600" y="6172200"/>
            <a:ext cx="16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LC уређа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1006560" y="914400"/>
            <a:ext cx="57801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дређивање метала методом оптичке емисионе спектрометри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зимање узорака и конзервирањ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зоркују се неотворена оригинална пакoвања; у случају неоригиналних паковања, узорци се доносе у одговарајућим добро затвореним посудама за узорковање. Потребно је водити рачуна да у току узорковања, транспорта и чувања узорка, не дође до контаминациј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зервирање узорака није потреб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премање узор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зорци се добро хомогенизују пре одређивања; ако садрже доста воде, треба их прво осушити у сушниц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Припрема разарањем у микроталасној пећи (према упутству за рад микроталасне пећи, зависно од врсте намирнице 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кивету се одмери узорка на аналитичкој ваги, дода се концентрована HNO3 и  концентровани Н2О2. По завршеном разарању, узорак се  профилтрира се преко густог квантитативног филтер папира и допуни дејонизованом в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Припрема сувим спаљивање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суд се одмери одређена количина узорка на аналитичкој ваги, постепено се спали на решоу а затим у пећи за жарење до потпуног спаљивањ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17T17:26:57Z</dcterms:created>
  <dc:creator>Jelena</dc:creator>
  <dc:description/>
  <dc:language>en-US</dc:language>
  <cp:lastModifiedBy>Dusan Tomovic</cp:lastModifiedBy>
  <dcterms:modified xsi:type="dcterms:W3CDTF">2020-03-19T22:38:4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